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959-D051-493E-BBEF-03018052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4A6-9874-4E9D-8316-2642FDB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EFF-70BD-41E9-B2EA-E64F1440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589-3B14-421C-A364-BD1D7E41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58D-2896-46D2-8A1C-F209FFF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56A-2060-4BFA-9302-0D12F153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EFA-1B77-4682-A923-14206DF6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637-DFCE-4132-BCBE-F6F77909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EFB-B404-4CD7-B16A-74108F1D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577-078E-4222-B5AE-C0D5FF1B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881-8B1F-4CF5-8139-28069142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BF6-4253-42D6-8687-43CD2193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B0E-8293-432D-993E-893614A3E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4"/>
          <p:cNvSpPr/>
          <p:nvPr/>
        </p:nvSpPr>
        <p:spPr>
          <a:xfrm>
            <a:off x="0" y="3048120"/>
            <a:ext cx="914400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6"/>
          <p:cNvSpPr/>
          <p:nvPr/>
        </p:nvSpPr>
        <p:spPr>
          <a:xfrm>
            <a:off x="68580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243828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617220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9"/>
          <p:cNvSpPr/>
          <p:nvPr/>
        </p:nvSpPr>
        <p:spPr>
          <a:xfrm>
            <a:off x="838188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0"/>
          <p:cNvSpPr/>
          <p:nvPr/>
        </p:nvSpPr>
        <p:spPr>
          <a:xfrm>
            <a:off x="4343400" y="25909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04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11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0" y="3429000"/>
            <a:ext cx="1371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erson’s Name:  now describe why this person is important enough to place on the timelin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yoursstyle.com/wp-content/uploads/2011/03/julius-caesar1.jpg"/>
          <p:cNvPicPr/>
          <p:nvPr/>
        </p:nvPicPr>
        <p:blipFill>
          <a:blip r:embed="rId1"/>
          <a:stretch/>
        </p:blipFill>
        <p:spPr>
          <a:xfrm>
            <a:off x="228600" y="5583240"/>
            <a:ext cx="968400" cy="127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1981080" y="228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Events of Western Civilization  1105 - 14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7848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149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7620120" y="3505320"/>
            <a:ext cx="1523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ortant Event:   Age of Exploratio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lain why it is importa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ttp://authorshive.com/wp-content/uploads/2011/01/santamaria.jpg"/>
          <p:cNvPicPr/>
          <p:nvPr/>
        </p:nvPicPr>
        <p:blipFill>
          <a:blip r:embed="rId2"/>
          <a:stretch/>
        </p:blipFill>
        <p:spPr>
          <a:xfrm>
            <a:off x="7772400" y="1143000"/>
            <a:ext cx="1168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31:53Z</dcterms:created>
  <dc:creator>poweruser</dc:creator>
  <dc:description/>
  <dc:language>en-US</dc:language>
  <cp:lastModifiedBy>poweruser</cp:lastModifiedBy>
  <dcterms:modified xsi:type="dcterms:W3CDTF">2011-04-04T12:44:28Z</dcterms:modified>
  <cp:revision>2</cp:revision>
  <dc:subject/>
  <dc:title>Slide 1</dc:title>
</cp:coreProperties>
</file>